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559-24E0-4E47-8C61-2146D4D0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C4F-7D6C-44F7-8EAC-63BE071C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694-7B7E-4267-AC87-5D0B9B08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7AD-35AD-47D1-B986-AF3375AB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EB5E-5500-4C89-9AD4-677F71A7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5148-258B-4698-97B3-5EB42083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B103-132D-4C93-8D8B-DCFA3A47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F0DF-E2B6-40D5-B9B1-F2230450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1214-2A9B-4C07-9228-F232D806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5521-D473-4C55-8DF2-BCC63397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7F7D-C9B8-4523-B8CD-E21B737C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4F6-75A9-4AB5-9A25-F24AB35B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C1E9-757C-40FB-B1C5-1F80D4DC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85D2-C9CC-4042-8673-3306EA05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D4BF-5D80-4E23-9A1E-93B2FE91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CFCD-6C5D-4D93-9D5A-EE3631E7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4085-7C08-48FE-9C81-8084C0D8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FF5-B128-41F6-A29C-99F1F76C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DB1-EE95-4528-BCC7-298B90FB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416-7652-4767-AA0F-8C228125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F38-B264-4A44-A9F1-9928C18D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916-F694-48A7-BB6D-174B282A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701-5D76-4250-9879-95D65210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A06-9D5F-4AF8-BE93-62B3956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5347-7D1B-41F7-A564-8A377392DC3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4F8F-E653-4FF2-B3C8-0F12D99B880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7440" y="907920"/>
            <a:ext cx="623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Arial"/>
              </a:rPr>
              <a:t>ПРЕДЛОЖЕНИЕ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Рисунок 8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8244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55" descr=""/>
          <p:cNvPicPr/>
          <p:nvPr/>
        </p:nvPicPr>
        <p:blipFill>
          <a:blip r:embed="rId1"/>
          <a:stretch/>
        </p:blipFill>
        <p:spPr>
          <a:xfrm>
            <a:off x="826920" y="2482920"/>
            <a:ext cx="8244000" cy="4216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977760"/>
            <a:ext cx="8263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ИДЫ 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ПРЕДЛОЖЕНИЙ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 ИНТОНА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2350440"/>
            <a:ext cx="8880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3366"/>
                </a:solidFill>
                <a:uFillTx/>
                <a:latin typeface="Arial"/>
              </a:rPr>
              <a:t>Главные члены предложения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</a:rPr>
              <a:t>(грамматическая основа предложения)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подлежащее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сказуемо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кто? что?                что делает? (-ют)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(имя сущ.)                          каков (-а)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(глагол, прил.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38960" y="932040"/>
            <a:ext cx="7995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ГЛАВНЫЕ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И  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ВТОРОСТЕПЕННЫЕ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ЧЛЕНЫ  ПРЕДЛОЖЕ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11800" y="4749840"/>
            <a:ext cx="23526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98" descr=""/>
          <p:cNvPicPr/>
          <p:nvPr/>
        </p:nvPicPr>
        <p:blipFill>
          <a:blip r:embed="rId1"/>
          <a:stretch/>
        </p:blipFill>
        <p:spPr>
          <a:xfrm>
            <a:off x="898560" y="957240"/>
            <a:ext cx="806616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62200" y="1052640"/>
            <a:ext cx="81133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оставить из данных слов предложения. Озаглавить текст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одчеркнуть в каждом предложении грамматическую осно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Жили, летом, братья, пасеке, н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Помогали, пчелами, дедушке, за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они, ухаживат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Мальчики, из, носили, ручья, воду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Вместе, с, собирали, мёд, дедом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душисты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Изучали, пчёл, повадки, ребят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Осенью, готовили, внуки, пчёл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с, зимовке, дедом, 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4960" y="19692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2565360"/>
            <a:ext cx="82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Под корнями старого дерева, лисья нора, родились весной, слепые маленькие лисятки, заботливо ухаживала, согревала их, прорезались вскоре, любили играть, весело резвились, грелись на солнышке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внимательно следила, заботливая мать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179280"/>
            <a:ext cx="57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оставление рассказ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 опорным словосочетания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8880" y="126828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7:13:48Z</dcterms:created>
  <dc:creator>PK-07</dc:creator>
  <dc:description/>
  <dc:language>en-US</dc:language>
  <cp:lastModifiedBy>PK-07</cp:lastModifiedBy>
  <dcterms:modified xsi:type="dcterms:W3CDTF">2011-08-05T09:01:02Z</dcterms:modified>
  <cp:revision>3</cp:revision>
  <dc:subject/>
  <dc:title>Слайд 1</dc:title>
</cp:coreProperties>
</file>